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367905"/>
        <c:axId val="93528247"/>
      </c:barChart>
      <c:catAx>
        <c:axId val="353679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28247"/>
        <c:crosses val="autoZero"/>
        <c:auto val="1"/>
        <c:lblAlgn val="ctr"/>
        <c:lblOffset val="100"/>
        <c:noMultiLvlLbl val="0"/>
      </c:catAx>
      <c:valAx>
        <c:axId val="935282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679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98B-7EAD-4A0C-A587-0B9457A7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3A53-D061-41A4-BD54-409AA3FE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CBA5-99F5-41C5-A231-BCBC915D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3B90-34E6-4281-97AD-C631FA56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9C84-97EA-4D71-AEC0-56CA8D18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659C-A685-40EE-9D00-98513D53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F5C-6082-47F4-AC0A-4E9B36AB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5B0-55ED-4041-9759-49CB6F43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4B55-1F3C-4310-8C51-AD8093F0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93B-88D2-42E0-8019-31B27A0C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71B8-3887-43C5-9470-E177AE55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5CC-7A45-4A8B-ADA9-4A3952E9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B702B-B3AB-46E6-8FA0-92A77AE368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