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950237"/>
        <c:axId val="23693228"/>
      </c:barChart>
      <c:catAx>
        <c:axId val="899502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93228"/>
        <c:crosses val="autoZero"/>
        <c:auto val="1"/>
        <c:lblAlgn val="ctr"/>
        <c:lblOffset val="100"/>
        <c:noMultiLvlLbl val="0"/>
      </c:catAx>
      <c:valAx>
        <c:axId val="236932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502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1B26-6EA2-42BD-B8FD-A6ABB56F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8EDB-C004-4E81-8E8A-630C46FC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02F7-5BDF-4F28-A0D3-B1151ED2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0341-0FEA-4F97-BFDE-7FC871F05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B9D2-0E87-453F-8176-99B25668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65AC-FF14-48F5-9F10-03B91E67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E8E5-9F2A-4A2B-8DE4-7DE84B71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318B-A6A8-4900-A37E-AE37BBBF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5D30-471C-45E2-8D56-1013F4DB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7A4F-E55C-41AB-93EB-4AC23172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11D2-2077-4FFB-9BDF-ED53E5C2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9AA8-5990-48DF-ACBE-EBAE7422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54358-2FEC-4E66-B4FF-16E337ABEC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